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35B6-52CD-42BD-9154-884020BF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D311-A51C-4293-9E5C-11AD773C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633C-B525-433C-933C-138643A0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C270-9306-4752-9481-9E6E70E2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8EF0-2F8F-4CFE-B01F-A7154434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6CDC-A579-46D4-BE60-AAA294B3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CF5D-59CC-46EA-830E-11CB3EBE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5ACA-7318-4E54-BA71-E016FFDE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8793-A51C-4393-A7FF-F96B84C0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8148-C4C3-4AF9-A433-3AFCB850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66F3-3911-4B69-9696-7E06099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70D4-F508-4116-B2D1-B7ED81C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522B-6564-4C79-BFB4-120FA9E0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A9A3-F446-4CDE-B249-6BCE130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0DBA-58DB-42E3-8806-9EC13DF6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D9C5-B650-4CD0-935F-532BC67A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EE93-81A9-4738-87BB-D3F92C6B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23E9-8561-4183-90E1-699B6776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1764-9B81-48EB-96AF-0000847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178B-8DF6-49B0-8EDF-0ED84FBD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12D4-2FDE-4912-824F-0ED7E69E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C2EB-F989-4420-8BE3-124B8C8B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76F0-EDF1-42BE-BE69-D23A211D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DF26-D13A-49AA-A5BA-5B370D68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B8E9-D6D7-4A44-98BD-8EC6A6D477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7423-8646-4EB8-8321-2977326E57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432440" y="333000"/>
            <a:ext cx="21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Century Schoolbook"/>
                <a:ea typeface="Times New Roman"/>
              </a:rPr>
              <a:t>Lipids Jigsaw Rubric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24000" y="692280"/>
          <a:ext cx="8569080" cy="5054400"/>
        </p:xfrm>
        <a:graphic>
          <a:graphicData uri="http://schemas.openxmlformats.org/drawingml/2006/table">
            <a:tbl>
              <a:tblPr/>
              <a:tblGrid>
                <a:gridCol w="1871640"/>
                <a:gridCol w="1800000"/>
                <a:gridCol w="1500120"/>
                <a:gridCol w="1308240"/>
                <a:gridCol w="1436760"/>
                <a:gridCol w="652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rganiz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Audience cannot understand presentation because there is no sequence of inform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Audience has difficulty following presentation because student jumps arou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presents information in logical sequence which audience can follo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presents information in logical, interesting sequence which audience can follo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Content Knowled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does not have a grasp of information; student cannot answer questions about subjec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is uncomfortable with information and is able to answer some questio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is at ease with content, but fails to elabo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demonstrates full knowledge with explanations and elabo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Visu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used no visu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occasionally used visuals that rarely support text and present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Visuals related to text and present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used visuals to reinforce screen text and present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Deliv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mumbles, incorrectly pronounces terms, and speaks too quietly for students around to he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incorrectly pronounces terms. Audience members have difficulty hear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’s voice is clear. Student pronounces most words correctl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used a clear voice and correct, precise pronunciation of term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Paper (not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lacked content and were very uncle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were clear and logic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7093080" y="6021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: ___/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48:04Z</dcterms:created>
  <dc:creator>MattJodi</dc:creator>
  <dc:description/>
  <dc:language>en-US</dc:language>
  <cp:lastModifiedBy>nbdoe</cp:lastModifiedBy>
  <dcterms:modified xsi:type="dcterms:W3CDTF">2008-03-19T15:32:03Z</dcterms:modified>
  <cp:revision>2</cp:revision>
  <dc:subject/>
  <dc:title>Slide 1</dc:title>
</cp:coreProperties>
</file>